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D8D-3C32-466C-8B6B-B225CA61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88-99C4-442B-8A8D-013DD791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04A-1949-4122-B6A4-197F57B3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B1D-8A87-4F9F-BF7E-38945633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F0C-EAA3-41CD-8CB4-ACD13101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13C-43B1-4CFE-9F13-FE34192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62E-58D2-437E-9388-EE06731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CCD-B8DE-448A-BF9C-1A3D746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B5B-DB02-4EB9-A628-D128034A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699-E6D4-4DC9-B359-3F16BE6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BED-1670-4795-B9A1-E03BD79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1A6-814F-44A7-87B1-14B9B37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650-ECB3-47D7-9726-1653457DA27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1150920" y="295128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COSTI PROPOSTA DI AGGIORNAMENTO DEL REPORT RE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ef_1"/>
          <p:cNvPicPr/>
          <p:nvPr/>
        </p:nvPicPr>
        <p:blipFill>
          <a:blip r:embed="rId1"/>
          <a:stretch/>
        </p:blipFill>
        <p:spPr>
          <a:xfrm>
            <a:off x="6732720" y="5373720"/>
            <a:ext cx="13683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sellaDiTesto 1"/>
          <p:cNvSpPr/>
          <p:nvPr/>
        </p:nvSpPr>
        <p:spPr>
          <a:xfrm>
            <a:off x="1746360" y="98100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COSTO DELL'OSSERVATORIO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sellaDiTesto 2"/>
          <p:cNvSpPr/>
          <p:nvPr/>
        </p:nvSpPr>
        <p:spPr>
          <a:xfrm>
            <a:off x="2087640" y="2060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32.100,00 + IVA 7.062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3"/>
          <p:cNvSpPr/>
          <p:nvPr/>
        </p:nvSpPr>
        <p:spPr>
          <a:xfrm>
            <a:off x="1116000" y="31082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39.162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sto fatturato alle Concessionarie da 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sellaDiTesto 1"/>
          <p:cNvSpPr/>
          <p:nvPr/>
        </p:nvSpPr>
        <p:spPr>
          <a:xfrm>
            <a:off x="1230480" y="981000"/>
            <a:ext cx="66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INSERIMENTO DEL DATO “NATIV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asellaDiTesto 2"/>
          <p:cNvSpPr/>
          <p:nvPr/>
        </p:nvSpPr>
        <p:spPr>
          <a:xfrm>
            <a:off x="2087640" y="2060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1.250,00 +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asellaDiTesto 3"/>
          <p:cNvSpPr/>
          <p:nvPr/>
        </p:nvSpPr>
        <p:spPr>
          <a:xfrm>
            <a:off x="503280" y="310824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sto aggiuntivo per la predisposizione iniziale del sistema di elaborazione dei d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lativamente alle elaborazioni mensili non sarà applicato alcun costo aggiunt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1"/>
          <p:cNvSpPr/>
          <p:nvPr/>
        </p:nvSpPr>
        <p:spPr>
          <a:xfrm>
            <a:off x="826920" y="620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46c0a"/>
                </a:solidFill>
                <a:latin typeface="Calibri"/>
              </a:rPr>
              <a:t>RACCOLTA ED ELABORAZIONE DATO “CANALE DI VENDITA IMPRESS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46c0a"/>
                </a:solidFill>
                <a:latin typeface="Calibri"/>
              </a:rPr>
              <a:t>(VENDITA DIRETTA, PROGRAMMATIC OPEN AUCTION, PRIVATE DE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sellaDiTesto 2"/>
          <p:cNvSpPr/>
          <p:nvPr/>
        </p:nvSpPr>
        <p:spPr>
          <a:xfrm>
            <a:off x="1116000" y="1484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5.450,00 + 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elaborati contestualmente ai dati tot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3"/>
          <p:cNvSpPr/>
          <p:nvPr/>
        </p:nvSpPr>
        <p:spPr>
          <a:xfrm>
            <a:off x="503280" y="25336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.45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4.0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4"/>
          <p:cNvSpPr/>
          <p:nvPr/>
        </p:nvSpPr>
        <p:spPr>
          <a:xfrm>
            <a:off x="431640" y="3532320"/>
            <a:ext cx="82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8.950,00 + 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i dati sono forniti in un momento diverso rispetto ai dati tot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5"/>
          <p:cNvSpPr/>
          <p:nvPr/>
        </p:nvSpPr>
        <p:spPr>
          <a:xfrm>
            <a:off x="503280" y="458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.45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7.5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1"/>
          <p:cNvSpPr/>
          <p:nvPr/>
        </p:nvSpPr>
        <p:spPr>
          <a:xfrm>
            <a:off x="826920" y="620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RILEVAZIONE DEI PREZZI MEDI PER 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MODALITÀ DI VENDITA “IMPRESSION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2087640" y="21160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10.300,00 +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5"/>
          <p:cNvSpPr/>
          <p:nvPr/>
        </p:nvSpPr>
        <p:spPr>
          <a:xfrm>
            <a:off x="503280" y="3052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.10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8.2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9:15:46Z</dcterms:created>
  <dc:creator>Luca Franzoni</dc:creator>
  <dc:description/>
  <dc:language>en-US</dc:language>
  <cp:lastModifiedBy>Portatile</cp:lastModifiedBy>
  <dcterms:modified xsi:type="dcterms:W3CDTF">2015-11-25T10:01:07Z</dcterms:modified>
  <cp:revision>11</cp:revision>
  <dc:subject/>
  <dc:title>Presentazione standard di PowerPoint</dc:title>
</cp:coreProperties>
</file>